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612A-51DE-4DBE-9EAD-4374FB33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A115-8CFF-43DE-8ADC-87EEDECC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795E-3B49-4868-AA62-B77461AE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1CE5-1411-454E-8F27-3758B0AF4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DD9A-A321-4AEA-8012-69877AB85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4683-B933-4E5E-B31D-5379AE50E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50B-EBC4-4779-9974-592D4BAB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D4B-8C21-4D6C-A0A1-A9EDC628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7B9-8856-4DB6-A3C6-9AADB144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33F-CA6D-4D0E-B476-C9EBE688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32E-05FE-447A-90E1-68D49743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20F-7AD2-48CB-BCEC-EAA78D51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3CC-AEAD-4DDA-BF23-812BAE98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53D-7C5A-4026-A576-8FDC325B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FD2-EEE5-48B5-A0D4-6E1D39F1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811-CB18-433F-8A36-007B0EDB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4CA-77F9-4DCF-A0C2-25A4BD8C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8F6-38C2-434E-9764-833F4AD3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797B-3300-45C6-BB7B-4FC61D728E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e/Triangle_with_notations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verse Kinematic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70C4-CE8A-4EB0-82BB-B4A3E1B884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of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of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9769-0BD2-4780-BEA0-4E7EE9C521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 Manip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: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: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C75D-C552-4A09-889C-8A04F15181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066680" y="2971800"/>
                <a:ext cx="182880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5829480" cy="32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w of cosi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44F2-9F21-4CB6-BF1E-CA0BF65A15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mage:Triangle with notation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905120"/>
            <a:ext cx="6496200" cy="315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^2 = a^2 + b^2 - 2ab\cos(\gamma) , \,"/>
          <p:cNvPicPr/>
          <p:nvPr/>
        </p:nvPicPr>
        <p:blipFill>
          <a:blip r:embed="rId3"/>
          <a:stretch/>
        </p:blipFill>
        <p:spPr>
          <a:xfrm>
            <a:off x="762120" y="5334120"/>
            <a:ext cx="4114800" cy="47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b^2 = c^2 + a^2 - 2ca\cos(\beta) , \,"/>
          <p:cNvPicPr/>
          <p:nvPr/>
        </p:nvPicPr>
        <p:blipFill>
          <a:blip r:embed="rId4"/>
          <a:stretch/>
        </p:blipFill>
        <p:spPr>
          <a:xfrm>
            <a:off x="990720" y="3200400"/>
            <a:ext cx="3657600" cy="39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a^2 = b^2 + c^2 - 2bc\cos(\alpha) . \,"/>
          <p:cNvPicPr/>
          <p:nvPr/>
        </p:nvPicPr>
        <p:blipFill>
          <a:blip r:embed="rId5"/>
          <a:stretch/>
        </p:blipFill>
        <p:spPr>
          <a:xfrm>
            <a:off x="990720" y="2666880"/>
            <a:ext cx="3276360" cy="3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AE6D-7D58-4B10-A13A-D3734AA395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676680" y="380880"/>
            <a:ext cx="5467320" cy="483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4038480" cy="7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1279440" cy="43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762120" y="2362320"/>
            <a:ext cx="116676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380880" y="3429000"/>
                <a:ext cx="3614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 Elkady</cp:lastModifiedBy>
  <dcterms:modified xsi:type="dcterms:W3CDTF">2008-02-28T09:39:29Z</dcterms:modified>
  <cp:revision>73</cp:revision>
  <dc:subject/>
  <dc:title>Robot Kinematics II </dc:title>
</cp:coreProperties>
</file>